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png" ContentType="image/png"/>
  <Override PartName="/ppt/media/image9.jpeg" ContentType="image/jpeg"/>
  <Override PartName="/ppt/media/image3.jpeg" ContentType="image/jpeg"/>
  <Override PartName="/ppt/media/image5.wmf" ContentType="image/x-wmf"/>
  <Override PartName="/ppt/media/image6.png" ContentType="image/png"/>
  <Override PartName="/ppt/media/image7.png" ContentType="image/pn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94D4C-760E-4163-9D0D-D2A7FEAF4B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28C7F-0E46-4C1E-A24C-C3E6BFB899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213A0-BCF2-4D89-BA41-5B05793AE0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07FDC-B1A2-4C50-A7D1-3BDBCFFC8C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 is the potential E during the transition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4A3B7-3A93-4600-86FB-74B5BCB1E8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ps.prenhall.com/esm_freeman_biosci_1/7/1946/498371.cw/index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E38EC-9961-4772-A445-01EF6AA160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763C7-93DD-4511-BB1F-1E7DB7D9FF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ts more stable than reactant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energy is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release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h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absorb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Net E outp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F627D-2044-454C-BBE2-0781982324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ctants are more stable than the produc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energy absorbed (to break bonds) than released (to form bon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energy absorp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B739C-E1B2-4CF0-93F1-69765A633A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DE716-B848-49F5-B301-F7A581D568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CE306-61D4-4ACA-B5BB-4DE19BBEE0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 http://www.chegg.com/homework-help/substance-greatest-entropy-h2o-l-h2o-g-explain-reasoningfigu-chapter-7-problem-4-solution-9780073402628-ex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78578-8ED1-45E7-8F09-90208AD611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F95F9-3431-41D6-92B2-3BBC5DFFBA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E65EF-04CE-4334-A8C7-4CA9FF831E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hemical reactions, entropy increases when disorder incre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75386-FC81-49E8-97B4-1518056818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ilar to Table 2 on page 1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589A5-1EC0-45E9-9B71-3A03F76A96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007A5-59F3-4B73-BBD0-75207D4C26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8C963-22CA-4CB6-8F06-82AB3B225C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F35FB-FED9-46E0-B6F3-962A6556F7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94235-18DC-42EF-82ED-BF217CDA28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5403B-905F-4961-B793-AFBB8EAF19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hyperphysics.phy-astr.gsu.edu/hbase/biology/atp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DFA4F-A358-4125-A910-43AA9C6987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doctortee.com/dsu/tiftickjian/bio100/enzyme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51DC2-3C62-41A6-830A-3E9F9BE003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sun.menloschool.org/~dspence/biology/chapter4/chapt4_5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E8559-4819-4A72-A9CA-66E892229F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B45F4-4E0D-494B-9BFC-9CBC1F71A6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B27E9-55D9-4870-B901-463B935744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netic energy - energy of mo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tential energy - stored energy (due to location or posi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F002E-41C0-484D-A95F-42CFB7BB58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 energy --&gt; Chemical Potential Energy (+ Hea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B7D41-2748-4D77-9523-2C0AC9A242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tokresource.org/tok_classes/biobiobio/biomenu/carbs_lipids_proteins/index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4FBF5-75E3-412A-B40A-89B162B536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tential energy of electrons relative to their distance &amp; attraction to nuclei of various atoms in a molecule;  strong attraction…less potential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57AB9-7F02-4424-9AC5-17D543018E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nd E :  How much E is needed to break a b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01CB1-D4B1-437B-A04F-2DEB10B377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ble from: http://butane.chem.uiuc.edu/pshapley/environmental/l14/1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D3616-C69D-45AB-AA9D-A6EB341AB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F0A9E-0E57-4BA8-8B99-A4BA76777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15351-B75B-45A6-BCD9-63717A45E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9CADC-C42C-4FCE-A963-AD40555D8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38053-5DEF-423E-9336-F6968269A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624CA-96E2-4EBD-A241-96DF1C555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EDFAC-9CDB-456C-9FA9-89E19DB97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1F056-2A20-4326-A0CF-658986030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3B90B-27BC-429B-92C4-809F200CE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AAFC6-859B-42C9-A767-C67D2910F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1C139-08E2-44C3-BE2E-E22156E0A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AAA51-8757-4F73-88CF-BC21358FD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60151-4134-4EC0-8963-541240DE1A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tabolism &amp; Ener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utorial (p.130-13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 through the calculations of the sample problems in the tutorial…and try Practice #1 &amp; 2 on page 13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tivation Energy (E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imum energy required to break bonds in reactants and start the chemical re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zymes reduce the E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chemical reactions (see 3.3 in textboo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3" descr="FG03_12FR"/>
          <p:cNvPicPr/>
          <p:nvPr/>
        </p:nvPicPr>
        <p:blipFill>
          <a:blip r:embed="rId1"/>
          <a:stretch/>
        </p:blipFill>
        <p:spPr>
          <a:xfrm>
            <a:off x="685800" y="747720"/>
            <a:ext cx="7772400" cy="52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thalpy of Re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nthalp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H) is the heat content of a subs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 is t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nthalpy of reac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; the overall heat change of a re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othermic: </a:t>
            </a: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∆H nega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1447920" y="1981080"/>
            <a:ext cx="600696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dothermic: ∆H posi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5" descr=""/>
          <p:cNvPicPr/>
          <p:nvPr/>
        </p:nvPicPr>
        <p:blipFill>
          <a:blip r:embed="rId1"/>
          <a:stretch/>
        </p:blipFill>
        <p:spPr>
          <a:xfrm>
            <a:off x="1409760" y="1994040"/>
            <a:ext cx="6210360" cy="37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ontaneous Re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ther or not a reaction occurs spontaneously depends not only on enthalpy change (∆H), but also on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ntropy (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nd Law of Thermodynam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every energy conversion, some of the useful energy in the system becomes unusable, and increases t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ntrop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 the univer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tropy (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ntrop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S) is a measure of the degree of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randomnes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isor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y chemical and physical process involves a change in the entropy of the system (∆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Content Placeholder 5" descr="6157-7-4I1.png"/>
          <p:cNvPicPr/>
          <p:nvPr/>
        </p:nvPicPr>
        <p:blipFill>
          <a:blip r:embed="rId1"/>
          <a:srcRect l="-55796" t="0" r="-55796" b="0"/>
          <a:stretch/>
        </p:blipFill>
        <p:spPr>
          <a:xfrm>
            <a:off x="685800" y="609480"/>
            <a:ext cx="77724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Metabolism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um of all reactions in a cell or organ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naboli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eactions build molec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ataboli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eactions break down molec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crease in Entrop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ids --&gt; liquids/g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quids --&gt; g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wer reactant molecules --&gt; more product molec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utes move from area of high concentration to area of low concent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ontaneous Reactio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094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1066680" y="1828800"/>
          <a:ext cx="7086600" cy="4635360"/>
        </p:xfrm>
        <a:graphic>
          <a:graphicData uri="http://schemas.openxmlformats.org/drawingml/2006/table">
            <a:tbl>
              <a:tblPr/>
              <a:tblGrid>
                <a:gridCol w="1981440"/>
                <a:gridCol w="2514600"/>
                <a:gridCol w="2590560"/>
              </a:tblGrid>
              <a:tr h="1373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othermic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favoured by E)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∆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 negative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dothermic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not favoured) 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∆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 positive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31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rease in entropy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favoured)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∆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 positive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ways spontaneous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 spontaneous at low T</a:t>
                      </a: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’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; spontaneous at high T</a:t>
                      </a: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’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31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rease in entropy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not favoured)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∆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 negative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 spontaneous at high T</a:t>
                      </a: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’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; spontanteous at low T</a:t>
                      </a: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’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 spontaneous;  always requires net input of E to occur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ibbs Free Ener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ergy that is available to do work is called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ree energ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reaction at temperature T, the change in free energy, ∆G is given by the equation: 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∆G = ∆H - T∆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ibbs Free Ener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2057400"/>
                <a:gridCol w="5715000"/>
              </a:tblGrid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∆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 &lt; 0</a:t>
                      </a:r>
                      <a:endParaRPr b="1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reaction is spontaneous</a:t>
                      </a:r>
                      <a:endParaRPr b="1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ergonic</a:t>
                      </a:r>
                      <a:endParaRPr b="1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∆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 &gt; 0</a:t>
                      </a:r>
                      <a:endParaRPr b="1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reaction is not spontaneous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dergonic</a:t>
                      </a:r>
                      <a:endParaRPr b="1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∆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 = 0</a:t>
                      </a:r>
                      <a:endParaRPr b="1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reaction is at equilibrium and there is no net change</a:t>
                      </a:r>
                      <a:endParaRPr b="1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ibbs Free Ener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: decomposition of w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(g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---&gt; 2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(g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(g)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∆H = +484k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∆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H positiv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non-spontaneo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tropy is increasing,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∆S posi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temperature is high enough, reaction will proceed. 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∆G = ∆H - T∆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TP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ergy Currency of the C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enosine Triphosph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cells in every living organism use the same energy carrier (ATP) for almost all E-requiring 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ucture of AT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5" descr="atpmol"/>
          <p:cNvPicPr/>
          <p:nvPr/>
        </p:nvPicPr>
        <p:blipFill>
          <a:blip r:embed="rId1"/>
          <a:stretch/>
        </p:blipFill>
        <p:spPr>
          <a:xfrm>
            <a:off x="1571760" y="1981080"/>
            <a:ext cx="60004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TP cy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4" descr="atp-cycle"/>
          <p:cNvPicPr/>
          <p:nvPr/>
        </p:nvPicPr>
        <p:blipFill>
          <a:blip r:embed="rId1"/>
          <a:stretch/>
        </p:blipFill>
        <p:spPr>
          <a:xfrm>
            <a:off x="1355760" y="1981080"/>
            <a:ext cx="64310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ergy Coup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6" descr="coupled_react"/>
          <p:cNvPicPr/>
          <p:nvPr/>
        </p:nvPicPr>
        <p:blipFill>
          <a:blip r:embed="rId1"/>
          <a:stretch/>
        </p:blipFill>
        <p:spPr>
          <a:xfrm>
            <a:off x="1241280" y="1981080"/>
            <a:ext cx="66596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ving organisms must obtain, store, and use energy to surv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nergy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the capacity to do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or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the transfer of energy from one body or place to ano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do cells use ATP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not use other energy-rich molecules direct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manageable amount of 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versal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- is able to couple with many different endergonic re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availability compared to other nutri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usable in a single re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ypes of Ener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inetic ener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tential ener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st Law of Thermodynam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ergy in the universe can be transferred or transformed, but not created or destroy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types of energy transfer occur in living organis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ergy of Chemical Re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5" descr="hydrolysis_reaction"/>
          <p:cNvPicPr/>
          <p:nvPr/>
        </p:nvPicPr>
        <p:blipFill>
          <a:blip r:embed="rId1"/>
          <a:stretch/>
        </p:blipFill>
        <p:spPr>
          <a:xfrm>
            <a:off x="2354400" y="1981080"/>
            <a:ext cx="44352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ergy of Chemical Re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reacta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onds must be broken            (E absorb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roduc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onds must be formed            (E releas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nd Ener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ond energ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easures the strength/stability of a covalent bond (kJ/mo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See Table 1 on page 129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5" descr="3"/>
          <p:cNvPicPr/>
          <p:nvPr/>
        </p:nvPicPr>
        <p:blipFill>
          <a:blip r:embed="rId1"/>
          <a:stretch/>
        </p:blipFill>
        <p:spPr>
          <a:xfrm>
            <a:off x="685800" y="731880"/>
            <a:ext cx="7772400" cy="524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8T23:37:05Z</dcterms:created>
  <dc:creator>rubina khan</dc:creator>
  <dc:description/>
  <dc:language>en-US</dc:language>
  <cp:lastModifiedBy>rubina khan</cp:lastModifiedBy>
  <cp:lastPrinted>2010-04-22T10:04:17Z</cp:lastPrinted>
  <dcterms:modified xsi:type="dcterms:W3CDTF">2015-10-06T17:54:09Z</dcterms:modified>
  <cp:revision>187</cp:revision>
  <dc:subject/>
  <dc:title>Introduction to Metabolism</dc:title>
</cp:coreProperties>
</file>